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310-838A-4E53-804C-F42902D9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472-9A1D-411D-BC09-13A5CA8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FE1-6EE6-4B5D-AFCD-0C9D9D02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638-7A87-4D97-8890-27AD12E3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991-9CE8-4552-B997-152B9C7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A2E-8CA7-435A-9AFD-2AC04835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28B-426C-4873-BB8D-5F744535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5CF-65B4-495D-8AD0-5DADFEC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924-9280-4532-94E4-A07645C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7CC-B917-4396-808F-3B1CA98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408-4B90-465C-B4AE-4A623F2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C23-B088-4579-A216-CD34C37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11C-E67C-430C-BB06-83F6ADADD63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461440" y="83628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cc00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48680" y="3645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248680" y="596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8680" y="1268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3213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47640" y="620640"/>
            <a:ext cx="5696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GLOBALIZZA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32000" y="2492280"/>
            <a:ext cx="295272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ff"/>
                </a:solidFill>
                <a:latin typeface="Candara"/>
              </a:rPr>
              <a:t>GLOB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83200">
            <a:off x="313920" y="1682640"/>
            <a:ext cx="3024360" cy="1079640"/>
          </a:xfrm>
          <a:prstGeom prst="rightArrow">
            <a:avLst>
              <a:gd name="adj1" fmla="val 50000"/>
              <a:gd name="adj2" fmla="val 70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1032400">
            <a:off x="466560" y="3317400"/>
            <a:ext cx="2876760" cy="1079640"/>
          </a:xfrm>
          <a:prstGeom prst="rightArrow">
            <a:avLst>
              <a:gd name="adj1" fmla="val 50000"/>
              <a:gd name="adj2" fmla="val 66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iglioramen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mezzi 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71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156360" y="249228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80000" y="981000"/>
            <a:ext cx="1800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1052640"/>
            <a:ext cx="936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404640"/>
            <a:ext cx="1656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2133720"/>
            <a:ext cx="1835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Libera circo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 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60280"/>
            <a:ext cx="147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Stili di V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Più 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3645000"/>
            <a:ext cx="190800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020000" y="4508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445000"/>
            <a:ext cx="208908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Immigrazioni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Città MULTIET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8:40Z</dcterms:created>
  <dc:creator>studente</dc:creator>
  <dc:description/>
  <dc:language>en-US</dc:language>
  <cp:lastModifiedBy>studente</cp:lastModifiedBy>
  <dcterms:modified xsi:type="dcterms:W3CDTF">2016-11-21T10:32:08Z</dcterms:modified>
  <cp:revision>6</cp:revision>
  <dc:subject/>
  <dc:title>Diapositiva 1</dc:title>
</cp:coreProperties>
</file>